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EFBA-3797-4B33-AAAD-3AF50E17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11080" y="2214360"/>
            <a:ext cx="7956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11080" y="4241880"/>
            <a:ext cx="7956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AC4D-2784-4247-A8E8-174D24E0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11080" y="2214360"/>
            <a:ext cx="3882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8080" y="2214360"/>
            <a:ext cx="3882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11080" y="4241880"/>
            <a:ext cx="3882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8080" y="4241880"/>
            <a:ext cx="3882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BD54-36C6-4E14-9C7C-2F2DA346C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11080" y="2214360"/>
            <a:ext cx="2561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1360" y="2214360"/>
            <a:ext cx="2561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1640" y="2214360"/>
            <a:ext cx="2561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11080" y="4241880"/>
            <a:ext cx="2561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1360" y="4241880"/>
            <a:ext cx="2561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1640" y="4241880"/>
            <a:ext cx="2561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8B45-A374-40A4-8406-F81BE7C5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DB24-94E3-4111-A85A-8EC63198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11080" y="2214360"/>
            <a:ext cx="795672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EEA0-8752-4AA0-8426-B361BD68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11080" y="2214360"/>
            <a:ext cx="7956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A476-AB8C-460B-826C-883F9F27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11080" y="2214360"/>
            <a:ext cx="3882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8080" y="2214360"/>
            <a:ext cx="3882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FCC6-3D71-436C-BFDE-C5DB992D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FC92-2A1E-46C1-825F-123497A2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7ADC-68A5-4256-A3A5-B3F84370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11080" y="2214360"/>
            <a:ext cx="3882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8080" y="2214360"/>
            <a:ext cx="3882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11080" y="4241880"/>
            <a:ext cx="3882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9A38-1A23-46EC-968D-F514B9ED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11080" y="2214360"/>
            <a:ext cx="795672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4403-FD33-439E-8229-A3DF51F7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11080" y="2214360"/>
            <a:ext cx="3882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8080" y="2214360"/>
            <a:ext cx="3882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8080" y="4241880"/>
            <a:ext cx="3882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3798-8129-4442-8046-4B86F149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11080" y="2214360"/>
            <a:ext cx="3882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8080" y="2214360"/>
            <a:ext cx="3882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11080" y="4241880"/>
            <a:ext cx="7956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C2FC-F211-4249-BF7A-53EB4BC8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11080" y="2214360"/>
            <a:ext cx="7956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11080" y="4241880"/>
            <a:ext cx="7956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F552-E779-495E-BE62-0F5B773D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11080" y="2214360"/>
            <a:ext cx="3882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8080" y="2214360"/>
            <a:ext cx="3882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11080" y="4241880"/>
            <a:ext cx="3882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8080" y="4241880"/>
            <a:ext cx="3882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19D8-52D5-4AC1-A2B2-3B5B26671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11080" y="2214360"/>
            <a:ext cx="2561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1360" y="2214360"/>
            <a:ext cx="2561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1640" y="2214360"/>
            <a:ext cx="2561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11080" y="4241880"/>
            <a:ext cx="2561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1360" y="4241880"/>
            <a:ext cx="2561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1640" y="4241880"/>
            <a:ext cx="25617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475D-7809-4B28-9A69-A4D7E2D71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11080" y="2214360"/>
            <a:ext cx="7956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9DF6-DF5D-44E7-99DA-48127B31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11080" y="2214360"/>
            <a:ext cx="3882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8080" y="2214360"/>
            <a:ext cx="3882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0067-1A90-4F41-A9D4-5AED4411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F021-016D-45B4-BAF5-345385AF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0CD2-47D4-4762-A60F-DE27E9AA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11080" y="2214360"/>
            <a:ext cx="3882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8080" y="2214360"/>
            <a:ext cx="3882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11080" y="4241880"/>
            <a:ext cx="3882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30F7-F115-44DA-986B-EE550393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11080" y="2214360"/>
            <a:ext cx="3882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8080" y="2214360"/>
            <a:ext cx="3882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8080" y="4241880"/>
            <a:ext cx="3882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ADB4-9462-4CFA-BDFF-D6DE2841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11080" y="2214360"/>
            <a:ext cx="3882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8080" y="2214360"/>
            <a:ext cx="3882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11080" y="4241880"/>
            <a:ext cx="7956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0FF7-6F0F-45AD-9401-21B22E9C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11080" y="2214360"/>
            <a:ext cx="7956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1108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8606-CA05-4074-BA1F-B56319A7ADF0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8880" y="63579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E514-87B8-48C3-B949-4C113A4F6A56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1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1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Lucida Sans Unicode"/>
              </a:rPr>
              <a:t>MDB’s Used Debt Burden as Reason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Lucida Sans Unicode"/>
              </a:rPr>
              <a:t>for Power Privatization in Indonesi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empus Sans ITC"/>
              </a:rPr>
              <a:t>Prepared For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empus Sans ITC"/>
              </a:rPr>
              <a:t>“</a:t>
            </a:r>
            <a:r>
              <a:rPr b="1" lang="en-US" sz="2400" spc="-1" strike="noStrike">
                <a:solidFill>
                  <a:srgbClr val="003366"/>
                </a:solidFill>
                <a:latin typeface="Tempus Sans ITC"/>
              </a:rPr>
              <a:t>Conference on Debt and The Privatization of Water and Power Services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empus Sans ITC"/>
              </a:rPr>
              <a:t>Asia Pacific Movement on Debt and Development (APMDD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empus Sans ITC"/>
              </a:rPr>
              <a:t>Bangkok, 8-12 December 200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empus Sans ITC"/>
              </a:rPr>
              <a:t>By: </a:t>
            </a: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Kusfiardi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Executive Secretary of Koalisi Anti Utang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(Anti Debt Coalition)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 Jakarta-Indonesi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Sans Unicode"/>
              </a:rPr>
              <a:t>Government Expenditures on Electricity, Gas and Water 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Lucida Sans Unicode"/>
              </a:rPr>
              <a:t>in Compare With Debt Payment 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Lucida Sans Unicode"/>
              </a:rPr>
              <a:t>(in Bn Rupiah)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406520" y="2214720"/>
          <a:ext cx="6764400" cy="388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6520" y="2214720"/>
                    <a:ext cx="6764400" cy="38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Sans Unicode"/>
              </a:rPr>
              <a:t>Government Expenditures on Electricity, Gas and Water 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Lucida Sans Unicode"/>
              </a:rPr>
              <a:t>in Compare With Development Expenditure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Lucida Sans Unicode"/>
              </a:rPr>
              <a:t>(in Bn Rupiah)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406520" y="2214720"/>
          <a:ext cx="6764400" cy="388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6520" y="2214720"/>
                    <a:ext cx="6764400" cy="38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811080" y="2214360"/>
            <a:ext cx="7956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74320" indent="-274320">
              <a:lnSpc>
                <a:spcPct val="9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empus Sans ITC"/>
              </a:rPr>
              <a:t>Electricity demand growth about 9%,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empus Sans ITC"/>
              </a:rPr>
              <a:t>New generation needed every year 1400 – 2600 MW for 2003 – 2010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empus Sans ITC"/>
              </a:rPr>
              <a:t>Government need fund for develop new generation, transmition and distribution for year 2001-2010 more less US $ 25 Billio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empus Sans ITC"/>
              </a:rPr>
              <a:t>In the beginning 1990</a:t>
            </a:r>
            <a:r>
              <a:rPr b="0" lang="en-US" sz="2000" spc="-1" strike="noStrike" baseline="30000">
                <a:solidFill>
                  <a:srgbClr val="003366"/>
                </a:solidFill>
                <a:latin typeface="Tempus Sans ITC"/>
              </a:rPr>
              <a:t>th</a:t>
            </a:r>
            <a:r>
              <a:rPr b="0" lang="en-US" sz="2000" spc="-1" strike="noStrike">
                <a:solidFill>
                  <a:srgbClr val="003366"/>
                </a:solidFill>
                <a:latin typeface="Tempus Sans ITC"/>
              </a:rPr>
              <a:t>, to solve electricity supply crisis, government starting invite IPPs base on MBDs (WB &amp; ADB) policy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empus Sans ITC"/>
              </a:rPr>
              <a:t>Model </a:t>
            </a:r>
            <a:r>
              <a:rPr b="0" i="1" lang="en-US" sz="2000" spc="-1" strike="noStrike">
                <a:solidFill>
                  <a:srgbClr val="003366"/>
                </a:solidFill>
                <a:latin typeface="Tempus Sans ITC"/>
              </a:rPr>
              <a:t>Power Purchase Agreement</a:t>
            </a:r>
            <a:r>
              <a:rPr b="0" lang="en-US" sz="2000" spc="-1" strike="noStrike">
                <a:solidFill>
                  <a:srgbClr val="003366"/>
                </a:solidFill>
                <a:latin typeface="Tempus Sans ITC"/>
              </a:rPr>
              <a:t> (PPA) IPPs have some weakness and threat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empus Sans ITC"/>
              </a:rPr>
              <a:t>Event like that, the change electricity structure MDBs still endorse possibility IPPs involvement in competitive wa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Sans Unicode"/>
              </a:rPr>
              <a:t>Indonesian Power Sector Condition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Sans Unicode"/>
              </a:rPr>
              <a:t>MDBs Polic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811080" y="2214720"/>
          <a:ext cx="7956720" cy="3881160"/>
        </p:xfrm>
        <a:graphic>
          <a:graphicData uri="http://schemas.openxmlformats.org/drawingml/2006/table">
            <a:tbl>
              <a:tblPr/>
              <a:tblGrid>
                <a:gridCol w="2652840"/>
                <a:gridCol w="2651040"/>
                <a:gridCol w="2652840"/>
              </a:tblGrid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empus Sans ITC"/>
                        </a:rPr>
                        <a:t>WB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empus Sans ITC"/>
                        </a:rPr>
                        <a:t>ADB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empus Sans ITC"/>
                        </a:rPr>
                        <a:t>IM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empus Sans ITC"/>
                        </a:rPr>
                        <a:t>Transparenc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empus Sans ITC"/>
                        </a:rPr>
                        <a:t>Privat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empus Sans ITC"/>
                        </a:rPr>
                        <a:t>Restructuri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empus Sans ITC"/>
                        </a:rPr>
                        <a:t>Invest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empus Sans ITC"/>
                        </a:rPr>
                        <a:t>Demand and Supply Managemen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empus Sans ITC"/>
                        </a:rPr>
                        <a:t>Renegotiation P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empus Sans ITC"/>
                        </a:rPr>
                        <a:t>Commercialism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empus Sans ITC"/>
                        </a:rPr>
                        <a:t>Integrations Pla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empus Sans ITC"/>
                        </a:rPr>
                        <a:t>Electricity Bill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empus Sans ITC"/>
                        </a:rPr>
                        <a:t>Commitmen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empus Sans ITC"/>
                        </a:rPr>
                        <a:t>Energy Efficienc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empus Sans ITC"/>
                        </a:rPr>
                        <a:t>Privat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empus Sans ITC"/>
                        </a:rPr>
                        <a:t>Environmen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Sans Unicode"/>
              </a:rPr>
              <a:t>Indonesian Power Sector Restructuring Policy 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Lucida Sans Unicode"/>
              </a:rPr>
              <a:t>25 Agustus 1998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11080" y="2214360"/>
            <a:ext cx="7956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empus Sans ITC"/>
              </a:rPr>
              <a:t>Power sector restructuring and electricity industry will be changed following the competition and commercial principle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empus Sans ITC"/>
              </a:rPr>
              <a:t>Power Sector restructuring will be start from Java-Bali that have big market and transmition network have been integrated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empus Sans ITC"/>
              </a:rPr>
              <a:t>Government function will be change as mere policy maker, regulatory body and sector development operato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Sans Unicode"/>
              </a:rPr>
              <a:t>Mission of Power Sector Restructur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11080" y="2214360"/>
            <a:ext cx="7956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82960" indent="-282960">
              <a:lnSpc>
                <a:spcPct val="9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empus Sans ITC"/>
              </a:rPr>
              <a:t>Recover PLN finance performanc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82960" indent="-282960">
              <a:lnSpc>
                <a:spcPct val="9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empus Sans ITC"/>
              </a:rPr>
              <a:t>Increasing tariff to level of full cost recovery and commercial investmen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82960" indent="-28296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empus Sans ITC"/>
              </a:rPr>
              <a:t>Rationalize IPPs participation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82960" indent="-28296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empus Sans ITC"/>
              </a:rPr>
              <a:t>Increasing participation through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840" indent="-26748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SzPct val="5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empus Sans ITC"/>
              </a:rPr>
              <a:t>Differentiates electricity supply according to function and reg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840" indent="-26748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SzPct val="5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empus Sans ITC"/>
              </a:rPr>
              <a:t>Develop independent business institution that are ready to compet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82960" indent="-28296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empus Sans ITC"/>
              </a:rPr>
              <a:t>Introduce competition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 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840" indent="-26748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SzPct val="5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empus Sans ITC"/>
              </a:rPr>
              <a:t>Starting single buyer market to full market competit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Sans Unicode"/>
              </a:rPr>
              <a:t>MDBs Policy Can’t Work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11080" y="2214360"/>
            <a:ext cx="7956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38080" y="2209680"/>
            <a:ext cx="7925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empus Sans ITC"/>
              </a:rPr>
              <a:t>Tariff increasing can’t solve the problem</a:t>
            </a:r>
            <a:r>
              <a:rPr b="0" lang="en-US" sz="2000" spc="-1" strike="noStrike">
                <a:solidFill>
                  <a:srgbClr val="003366"/>
                </a:solidFill>
                <a:latin typeface="Tempus Sans ITC"/>
              </a:rPr>
              <a:t>, because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empus Sans ITC"/>
              </a:rPr>
              <a:t>1. Will make people difficult to get access for electricity servic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empus Sans ITC"/>
              </a:rPr>
              <a:t>2. Will make Indonesian economic getting worse and weak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empus Sans ITC"/>
              </a:rPr>
              <a:t>3. Will increase social conflic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empus Sans ITC"/>
              </a:rPr>
              <a:t>Electricity State Own Enterprises (PT.PLN) losses not cause low tariff but cost of production is to high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empus Sans ITC"/>
              </a:rPr>
              <a:t>The problems on Indonesian electricity more cause wrong policy</a:t>
            </a:r>
            <a:r>
              <a:rPr b="0" lang="en-US" sz="2000" spc="-1" strike="noStrike">
                <a:solidFill>
                  <a:srgbClr val="003366"/>
                </a:solidFill>
                <a:latin typeface="Tempus Sans ITC"/>
              </a:rPr>
              <a:t>, in the government level, parliaments , and PLN management including IPP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Sans Unicode"/>
              </a:rPr>
              <a:t>Power Sector Restructuring Principl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11080" y="2214360"/>
            <a:ext cx="7956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empus Sans ITC"/>
              </a:rPr>
              <a:t>Restructuring process should be base on principles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empus Sans ITC"/>
              </a:rPr>
              <a:t>Transparenc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empus Sans ITC"/>
              </a:rPr>
              <a:t>Public Accountabilities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empus Sans ITC"/>
              </a:rPr>
              <a:t>Public Participation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empus Sans ITC"/>
              </a:rPr>
              <a:t>Protecting consumers (peoples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empus Sans ITC"/>
              </a:rPr>
              <a:t>Serve for more region that haven't electricity services ye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Sans Unicode"/>
              </a:rPr>
              <a:t>What We Are Suppose To Do?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11080" y="2214360"/>
            <a:ext cx="7956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empus Sans ITC"/>
              </a:rPr>
              <a:t>At national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empus Sans ITC"/>
              </a:rPr>
              <a:t>Using public pressure and public opinion to stop government dependent to MDBs fund for develop infrastructure project, including on power secto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empus Sans ITC"/>
              </a:rPr>
              <a:t>Invited and consolidated more people to involve in this advocacy and campaig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empus Sans ITC"/>
              </a:rPr>
              <a:t>At global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empus Sans ITC"/>
              </a:rPr>
              <a:t>Build an effective campaign and advocacy  to push MDBs not dictate national policy on public utilities and public services through their debt mechanism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empus Sans ITC"/>
              </a:rPr>
              <a:t>Make an effective effort to bring MDBs (including IPPs) to the international court, asking for their responsibilities about what they are doing that have been make people suffe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811080" y="2214360"/>
            <a:ext cx="7956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empus Sans ITC"/>
              </a:rPr>
              <a:t>Don’t let MDBs role our live in our country and our united on global advocacy agenda will be make them go away from our liv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empus Sans ITC"/>
              </a:rPr>
              <a:t>Another World is Possible 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donesia; Poor Country in the Debt Tra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752480" y="2286000"/>
            <a:ext cx="5678280" cy="3510000"/>
            <a:chOff x="1752480" y="2286000"/>
            <a:chExt cx="5678280" cy="3510000"/>
          </a:xfrm>
        </p:grpSpPr>
        <p:grpSp>
          <p:nvGrpSpPr>
            <p:cNvPr id="294" name=""/>
            <p:cNvGrpSpPr/>
            <p:nvPr/>
          </p:nvGrpSpPr>
          <p:grpSpPr>
            <a:xfrm>
              <a:off x="1757160" y="2290680"/>
              <a:ext cx="5668920" cy="3500280"/>
              <a:chOff x="1757160" y="2290680"/>
              <a:chExt cx="5668920" cy="350028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1757160" y="2290680"/>
                <a:ext cx="603360" cy="2327400"/>
                <a:chOff x="1757160" y="2290680"/>
                <a:chExt cx="603360" cy="232740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1825560" y="2290680"/>
                  <a:ext cx="466560" cy="232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003366"/>
                      </a:solidFill>
                      <a:latin typeface="Verdana"/>
                      <a:ea typeface="Arial Unicode MS"/>
                    </a:rPr>
                    <a:t>No.</a:t>
                  </a:r>
                  <a:endParaRPr b="0" lang="en-US" sz="1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57160" y="2290680"/>
                  <a:ext cx="603360" cy="232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2360520" y="2290680"/>
                <a:ext cx="1081080" cy="2327400"/>
                <a:chOff x="2360520" y="2290680"/>
                <a:chExt cx="1081080" cy="232740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2428560" y="2290680"/>
                  <a:ext cx="944640" cy="232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003366"/>
                      </a:solidFill>
                      <a:latin typeface="Verdana"/>
                      <a:ea typeface="Arial Unicode MS"/>
                    </a:rPr>
                    <a:t>Country</a:t>
                  </a:r>
                  <a:endParaRPr b="0" lang="en-US" sz="1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360520" y="2290680"/>
                  <a:ext cx="1081080" cy="232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3441600" y="2290680"/>
                <a:ext cx="1958760" cy="1139760"/>
                <a:chOff x="3441600" y="2290680"/>
                <a:chExt cx="1958760" cy="113976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3509640" y="2290680"/>
                  <a:ext cx="1822680" cy="113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003366"/>
                      </a:solidFill>
                      <a:latin typeface="Verdana"/>
                      <a:ea typeface="Arial Unicode MS"/>
                    </a:rPr>
                    <a:t>Foreign Debt</a:t>
                  </a:r>
                  <a:endParaRPr b="0" lang="en-US" sz="1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3441600" y="2290680"/>
                  <a:ext cx="1958760" cy="113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5400360" y="2290680"/>
                <a:ext cx="1046160" cy="1139760"/>
                <a:chOff x="5400360" y="2290680"/>
                <a:chExt cx="1046160" cy="113976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5468760" y="2290680"/>
                  <a:ext cx="909720" cy="113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003366"/>
                      </a:solidFill>
                      <a:latin typeface="Verdana"/>
                      <a:ea typeface="Arial Unicode MS"/>
                    </a:rPr>
                    <a:t>Foreign Debt/capita</a:t>
                  </a:r>
                  <a:endParaRPr b="0" lang="en-US" sz="1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400360" y="2290680"/>
                  <a:ext cx="1046160" cy="113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6446520" y="2290680"/>
                <a:ext cx="979560" cy="1139760"/>
                <a:chOff x="6446520" y="2290680"/>
                <a:chExt cx="979560" cy="113976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6514920" y="2290680"/>
                  <a:ext cx="843120" cy="113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003366"/>
                      </a:solidFill>
                      <a:latin typeface="Verdana"/>
                      <a:ea typeface="Arial Unicode MS"/>
                    </a:rPr>
                    <a:t>Foreign Debt Present Value GDP</a:t>
                  </a:r>
                  <a:endParaRPr b="0" lang="en-US" sz="1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6446520" y="2290680"/>
                  <a:ext cx="979560" cy="113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3441600" y="3430440"/>
                <a:ext cx="979560" cy="593640"/>
                <a:chOff x="3441600" y="3430440"/>
                <a:chExt cx="979560" cy="59364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3509640" y="3430440"/>
                  <a:ext cx="8431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003366"/>
                      </a:solidFill>
                      <a:latin typeface="Verdana"/>
                      <a:ea typeface="Arial Unicode MS"/>
                    </a:rPr>
                    <a:t>1990</a:t>
                  </a:r>
                  <a:endParaRPr b="0" lang="en-US" sz="1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441600" y="3430440"/>
                  <a:ext cx="9795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4421160" y="3430440"/>
                <a:ext cx="979200" cy="593640"/>
                <a:chOff x="4421160" y="3430440"/>
                <a:chExt cx="979200" cy="59364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4489200" y="3430440"/>
                  <a:ext cx="8431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003366"/>
                      </a:solidFill>
                      <a:latin typeface="Verdana"/>
                      <a:ea typeface="Arial Unicode MS"/>
                    </a:rPr>
                    <a:t>1998</a:t>
                  </a:r>
                  <a:endParaRPr b="0" lang="en-US" sz="1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4421160" y="3430440"/>
                  <a:ext cx="9792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5400360" y="3430440"/>
                <a:ext cx="2025720" cy="593640"/>
                <a:chOff x="5400360" y="3430440"/>
                <a:chExt cx="2025720" cy="59364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5468760" y="3430440"/>
                  <a:ext cx="188928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003366"/>
                      </a:solidFill>
                      <a:latin typeface="Verdana"/>
                      <a:ea typeface="Arial Unicode MS"/>
                    </a:rPr>
                    <a:t>1998</a:t>
                  </a:r>
                  <a:endParaRPr b="0" lang="en-US" sz="1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400360" y="3430440"/>
                  <a:ext cx="202572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3441600" y="4024080"/>
                <a:ext cx="1958760" cy="594000"/>
                <a:chOff x="3441600" y="4024080"/>
                <a:chExt cx="1958760" cy="59400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3509640" y="4024080"/>
                  <a:ext cx="182268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003366"/>
                      </a:solidFill>
                      <a:latin typeface="Verdana"/>
                      <a:ea typeface="Arial Unicode MS"/>
                    </a:rPr>
                    <a:t>(billion USD)</a:t>
                  </a:r>
                  <a:endParaRPr b="0" lang="en-US" sz="1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3441600" y="4024080"/>
                  <a:ext cx="195876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5400360" y="4024080"/>
                <a:ext cx="1046160" cy="594000"/>
                <a:chOff x="5400360" y="4024080"/>
                <a:chExt cx="1046160" cy="59400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5468760" y="4024080"/>
                  <a:ext cx="90972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003366"/>
                      </a:solidFill>
                      <a:latin typeface="Verdana"/>
                      <a:ea typeface="Arial Unicode MS"/>
                    </a:rPr>
                    <a:t>(USD)</a:t>
                  </a:r>
                  <a:endParaRPr b="0" lang="en-US" sz="1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5400360" y="4024080"/>
                  <a:ext cx="104616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6446520" y="4024080"/>
                <a:ext cx="979560" cy="594000"/>
                <a:chOff x="6446520" y="4024080"/>
                <a:chExt cx="979560" cy="59400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6514920" y="4024080"/>
                  <a:ext cx="84312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003366"/>
                      </a:solidFill>
                      <a:latin typeface="Verdana"/>
                      <a:ea typeface="Arial Unicode MS"/>
                    </a:rPr>
                    <a:t>(%)</a:t>
                  </a:r>
                  <a:endParaRPr b="0" lang="en-US" sz="1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446520" y="4024080"/>
                  <a:ext cx="97956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1757160" y="4618080"/>
                <a:ext cx="603360" cy="593640"/>
                <a:chOff x="1757160" y="4618080"/>
                <a:chExt cx="603360" cy="59364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1825560" y="4618080"/>
                  <a:ext cx="4665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003366"/>
                      </a:solidFill>
                      <a:latin typeface="Verdana"/>
                      <a:ea typeface="Arial Unicode MS"/>
                    </a:rPr>
                    <a:t>6. </a:t>
                  </a:r>
                  <a:endParaRPr b="0" lang="en-US" sz="1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757160" y="4618080"/>
                  <a:ext cx="6033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2360520" y="4618080"/>
                <a:ext cx="1081080" cy="593640"/>
                <a:chOff x="2360520" y="4618080"/>
                <a:chExt cx="1081080" cy="59364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2428560" y="4618080"/>
                  <a:ext cx="94464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003366"/>
                      </a:solidFill>
                      <a:latin typeface="Verdana"/>
                      <a:ea typeface="Arial Unicode MS"/>
                    </a:rPr>
                    <a:t>Indonesia</a:t>
                  </a:r>
                  <a:endParaRPr b="0" lang="en-US" sz="1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360520" y="4618080"/>
                  <a:ext cx="108108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3441600" y="4618080"/>
                <a:ext cx="979560" cy="593640"/>
                <a:chOff x="3441600" y="4618080"/>
                <a:chExt cx="979560" cy="59364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3509640" y="4618080"/>
                  <a:ext cx="8431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003366"/>
                      </a:solidFill>
                      <a:latin typeface="Verdana"/>
                      <a:ea typeface="Arial Unicode MS"/>
                    </a:rPr>
                    <a:t>70</a:t>
                  </a:r>
                  <a:endParaRPr b="0" lang="en-US" sz="1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3441600" y="4618080"/>
                  <a:ext cx="9795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4421160" y="4618080"/>
                <a:ext cx="979200" cy="593640"/>
                <a:chOff x="4421160" y="4618080"/>
                <a:chExt cx="979200" cy="59364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4489200" y="4618080"/>
                  <a:ext cx="8431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003366"/>
                      </a:solidFill>
                      <a:latin typeface="Verdana"/>
                      <a:ea typeface="Arial Unicode MS"/>
                    </a:rPr>
                    <a:t>150</a:t>
                  </a:r>
                  <a:endParaRPr b="0" lang="en-US" sz="1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421160" y="4618080"/>
                  <a:ext cx="9792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5400360" y="4618080"/>
                <a:ext cx="1046160" cy="593640"/>
                <a:chOff x="5400360" y="4618080"/>
                <a:chExt cx="1046160" cy="59364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5468760" y="4618080"/>
                  <a:ext cx="9097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003366"/>
                      </a:solidFill>
                      <a:latin typeface="Verdana"/>
                      <a:ea typeface="Arial Unicode MS"/>
                    </a:rPr>
                    <a:t>750</a:t>
                  </a:r>
                  <a:endParaRPr b="0" lang="en-US" sz="1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5400360" y="4618080"/>
                  <a:ext cx="10461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6446520" y="4618080"/>
                <a:ext cx="979560" cy="593640"/>
                <a:chOff x="6446520" y="4618080"/>
                <a:chExt cx="979560" cy="59364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6514920" y="4618080"/>
                  <a:ext cx="8431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003366"/>
                      </a:solidFill>
                      <a:latin typeface="Verdana"/>
                      <a:ea typeface="Arial Unicode MS"/>
                    </a:rPr>
                    <a:t>169</a:t>
                  </a:r>
                  <a:endParaRPr b="0" lang="en-US" sz="1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446520" y="4618080"/>
                  <a:ext cx="9795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1757160" y="5211720"/>
                <a:ext cx="5668920" cy="579240"/>
                <a:chOff x="1757160" y="5211720"/>
                <a:chExt cx="5668920" cy="57924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1825560" y="5211720"/>
                  <a:ext cx="55324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id-ID" sz="1000" spc="-1" strike="noStrike">
                      <a:solidFill>
                        <a:srgbClr val="003366"/>
                      </a:solidFill>
                      <a:latin typeface="Verdana"/>
                      <a:ea typeface="Arial Unicode MS"/>
                    </a:rPr>
                    <a:t>Sumber: World Development Report 2000/2001 (diolah oleh Revrisond Baswir)</a:t>
                  </a:r>
                  <a:endParaRPr b="0" lang="en-US" sz="1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757160" y="5211720"/>
                  <a:ext cx="5668920" cy="57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9" name=""/>
            <p:cNvSpPr/>
            <p:nvPr/>
          </p:nvSpPr>
          <p:spPr>
            <a:xfrm>
              <a:off x="1752480" y="2286000"/>
              <a:ext cx="5678280" cy="3510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Sans Unicode"/>
              </a:rPr>
              <a:t>Debt Payment 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Lucida Sans Unicode"/>
              </a:rPr>
              <a:t>(in Bn Rupiah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811080" y="2443320"/>
          <a:ext cx="7956720" cy="342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1080" y="2443320"/>
                    <a:ext cx="7956720" cy="34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Sans Unicode"/>
              </a:rPr>
              <a:t>Debt Payment in Compare With Disburse Foreign Loan 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Lucida Sans Unicode"/>
              </a:rPr>
              <a:t>(in Bn Rupiah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187280" y="2214720"/>
          <a:ext cx="7202520" cy="388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214720"/>
                    <a:ext cx="7202520" cy="38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Sans Unicode"/>
              </a:rPr>
              <a:t>Government Spending on Debt Payment and Subsidies 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Lucida Sans Unicode"/>
              </a:rPr>
              <a:t>(in Bn Rupiah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141560" y="2214720"/>
            <a:ext cx="729288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Sans Unicode"/>
              </a:rPr>
              <a:t>Government Revenue Under Debt Burden Pressure  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Lucida Sans Unicode"/>
              </a:rPr>
              <a:t>(in Bn Rupiah)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958680" y="2313000"/>
          <a:ext cx="76582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8680" y="2313000"/>
                    <a:ext cx="76582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Sans Unicode"/>
              </a:rPr>
              <a:t>Debt Payment in Compare with Domestic Tax Revenue 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Lucida Sans Unicode"/>
              </a:rPr>
              <a:t>(in Bn Rupiah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449360" y="2214720"/>
          <a:ext cx="6676920" cy="388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9360" y="2214720"/>
                    <a:ext cx="6676920" cy="38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Sans Unicode"/>
              </a:rPr>
              <a:t>Debt Payment in Compare with Development Expenditure 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Lucida Sans Unicode"/>
              </a:rPr>
              <a:t>(in Bn Rupiah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1136520" y="2371680"/>
          <a:ext cx="7304040" cy="356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6520" y="2371680"/>
                    <a:ext cx="7304040" cy="35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Sans Unicode"/>
              </a:rPr>
              <a:t>Government Expenditures on Electricity, Gas and Water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Lucida Sans Unicode"/>
              </a:rPr>
              <a:t>(in Bn Rupiah)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433520" y="2384280"/>
          <a:ext cx="6708600" cy="354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3520" y="2384280"/>
                    <a:ext cx="6708600" cy="35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10:21:35Z</dcterms:created>
  <dc:creator>Tecra</dc:creator>
  <dc:description/>
  <dc:language>en-US</dc:language>
  <cp:lastModifiedBy>Mae Buenaventura</cp:lastModifiedBy>
  <dcterms:modified xsi:type="dcterms:W3CDTF">2003-12-10T23:51:50Z</dcterms:modified>
  <cp:revision>15</cp:revision>
  <dc:subject/>
  <dc:title>MDB’s Used Debt Mechanism  to Push Privatization in Indonesia</dc:title>
</cp:coreProperties>
</file>