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E9878-FA39-4F62-B76D-C3536E932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9DC4D-4D38-4129-9F80-2B0141610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20CD2-C8B8-4720-A7FE-8CBCE8DC3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78E2D-F624-43B7-B403-A9ECB19AD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8291D0-0682-4D43-93B0-17E726AC7C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45823-3EF9-4351-A8D5-BA8554635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46B34-C51A-43F9-9577-248EEFCEE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B8C12-D5FD-4B7F-9BE4-8C4D8B521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F4770-93C5-4510-8C66-3AEC6A355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96BD7-8FB7-47C4-8CBD-782940B21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1E6D2-04D7-4F47-BE94-A0BBF3C60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B212A-B710-44BE-8263-1FD3D69EE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8F1BB-77F5-4AD2-A0E9-85A99C860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A5CEC-FA05-484E-96D0-88F09880F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2A1A4-4550-46F7-8C65-5D9FD3104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74CDC6-6125-4989-8BAB-7C7445A892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84F806-4F96-44BF-B864-6A49564D49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043A2-F550-4D43-9B2A-ED425E8F0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A6C20-27D6-48AE-9FBD-BEFBDEEE0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AFC54-2D5F-41A3-BD7C-CB8683643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B4AF8-EF3F-4586-9392-0C25585D7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093C5-861F-48AB-9497-49216DCD6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F5D5F-CB0D-4BDA-9864-AE1A565EC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B26C6-ECB5-4C1E-B081-B209A94E7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099E4-EF29-4813-913D-C748D459D84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FFF80-E9EC-4463-B2B2-F5968DD85BD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mailto:secretariat@wgpsr.org"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990720"/>
            <a:ext cx="7772400" cy="20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sian Development Bank and Privatization of Power Services </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295280" y="4266720"/>
            <a:ext cx="7010640" cy="182268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esented at Asia Pacific Conference on Debt and Privatization of Water and Power Services</a:t>
            </a:r>
            <a:endParaRPr b="0" lang="en-US" sz="2000" spc="-1" strike="noStrike">
              <a:solidFill>
                <a:srgbClr val="000000"/>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angkok, 8-12 December 2003</a:t>
            </a:r>
            <a:endParaRPr b="0" lang="en-US" sz="2000" spc="-1" strike="noStrike">
              <a:solidFill>
                <a:srgbClr val="000000"/>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abby Tumiwa</a:t>
            </a:r>
            <a:endParaRPr b="0" lang="en-US" sz="2000" spc="-1" strike="noStrike">
              <a:solidFill>
                <a:srgbClr val="000000"/>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GPSR – Indonesi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1221840" y="285480"/>
            <a:ext cx="7650360" cy="13197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radigm Shift…</a:t>
            </a:r>
            <a:r>
              <a:rPr b="0" lang="en-US" sz="3600" spc="-1" strike="noStrike">
                <a:solidFill>
                  <a:srgbClr val="333399"/>
                </a:solidFill>
                <a:latin typeface="Tahoma"/>
              </a:rPr>
              <a:t>con’t</a:t>
            </a:r>
            <a:endParaRPr b="0" lang="en-US" sz="3600" spc="-1" strike="noStrike">
              <a:solidFill>
                <a:srgbClr val="333399"/>
              </a:solidFill>
              <a:latin typeface="Tahoma"/>
            </a:endParaRPr>
          </a:p>
        </p:txBody>
      </p:sp>
      <p:sp>
        <p:nvSpPr>
          <p:cNvPr id="118" name="PlaceHolder 1"/>
          <p:cNvSpPr>
            <a:spLocks noGrp="1"/>
          </p:cNvSpPr>
          <p:nvPr>
            <p:ph/>
          </p:nvPr>
        </p:nvSpPr>
        <p:spPr>
          <a:xfrm>
            <a:off x="762120" y="2057040"/>
            <a:ext cx="7812000" cy="4459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ergy 2000, Review of Energy Policy of ADB</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listed 4 operational priorities for ADB, namely: poverty reduction, increasing private sector involvement, addressing the regional and global environmental impact, and promoting regional cooperation. </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vate sector development and involvement of the electricity industry in DMCs is encouraged through restructuring/reform program and the Bank’s assistance to DMC in order to create an enabling environment for private sector participation. </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ank’s will assist DMCs in: design and implementation of power sub-sector restructuring, implementation projects that promote competition and mitigate social impact arising from restructuring such as job redundancies. </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ey Issue on ADB’s Paradigm Shift in PSR</a:t>
            </a:r>
            <a:endParaRPr b="0" lang="en-US" sz="4400" spc="-1" strike="noStrike">
              <a:solidFill>
                <a:srgbClr val="333399"/>
              </a:solidFill>
              <a:latin typeface="Tahoma"/>
            </a:endParaRPr>
          </a:p>
        </p:txBody>
      </p:sp>
      <p:graphicFrame>
        <p:nvGraphicFramePr>
          <p:cNvPr id="120" name=""/>
          <p:cNvGraphicFramePr/>
          <p:nvPr/>
        </p:nvGraphicFramePr>
        <p:xfrm>
          <a:off x="762120" y="1676520"/>
          <a:ext cx="8001000" cy="4986360"/>
        </p:xfrm>
        <a:graphic>
          <a:graphicData uri="http://schemas.openxmlformats.org/drawingml/2006/table">
            <a:tbl>
              <a:tblPr/>
              <a:tblGrid>
                <a:gridCol w="2749320"/>
                <a:gridCol w="2816280"/>
                <a:gridCol w="243540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ssu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efore Refor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fter Refor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ower Industry Structu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Vertically integrated generation, transmission and distributions are in one enterprise, usually owned state-owned enterpri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reation of new generation companies, transmission and distribution companies as the result of unbundling proce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ower Industry Marke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gulated and monopolize by state-owned utiliti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regulated, introducing competition in several stage: regulated utility, single buyer model, wholesale competition, and retail competition.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lectricity Tarif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gulated, government subsidy, lifeline r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rket-based electricity tariff, discouraged cross subsidy, introduced targeted subsid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ivate Sector Particip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dependent Power Producers, Power Purchase Agreement (PPA) between IPP and State-Owned Util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ivate sectors play bigger role; new IPP encouraged using BOT/BOOT scheme; privatization in different form: lease contract, management contract, and full ownership of utiliti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ole of the governm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tilities owner, policy and regulation making, regulatory institu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olicy maker and facilitator only, independent regulatory commission is established to function as regulato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B’s Role…</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B has taken a lead advisory role in restructuring power sector in Bangladesh, Bhutan, Cambodia, India, Indonesia, Laos, Nepal, Pakistan, Philippines, Thailand, Vietnam and some small island countries in Pacific. Efforts also ongoing in country like PRC, Sri Lanka and Central Asia countrie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licy based program loan, related to the implementation of an agreed restructuring program, have been extended to Philippines (1998), Indonesia (1999), Pakistan (2000), Gujarat-India (2000), Madhya Pradesh-India (2001) and some other countries.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B also provides Technical Assistance loans for preparing restructuring program, capacity building and sharing experience. ADB assists country to set up electricity regulatory commission/board.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B’s Role…con’t</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nce 1995 to 1999, from $4.8 billion energy sector loans, power sector restructuring loans share about 17.3% and from $74.1 million TAs, 22.8% for power restructur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2002, about 45% from total sector loan of $1.017 billion were for PSR related program.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B’s PSR Program Loan (1998-2002)</a:t>
            </a:r>
            <a:endParaRPr b="0" lang="en-US" sz="4400" spc="-1" strike="noStrike">
              <a:solidFill>
                <a:srgbClr val="333399"/>
              </a:solidFill>
              <a:latin typeface="Tahoma"/>
            </a:endParaRPr>
          </a:p>
        </p:txBody>
      </p:sp>
      <p:graphicFrame>
        <p:nvGraphicFramePr>
          <p:cNvPr id="126" name=""/>
          <p:cNvGraphicFramePr/>
          <p:nvPr/>
        </p:nvGraphicFramePr>
        <p:xfrm>
          <a:off x="609480" y="1752480"/>
          <a:ext cx="8305920" cy="4864320"/>
        </p:xfrm>
        <a:graphic>
          <a:graphicData uri="http://schemas.openxmlformats.org/drawingml/2006/table">
            <a:tbl>
              <a:tblPr/>
              <a:tblGrid>
                <a:gridCol w="1344600"/>
                <a:gridCol w="3227400"/>
                <a:gridCol w="1981440"/>
                <a:gridCol w="1752480"/>
              </a:tblGrid>
              <a:tr h="612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Country</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Program Name</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Amount of loan</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 million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Loan Approval</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India</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Gujarat Power Sector Development Program</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15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Dec-200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India</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Madhya Pradesh Power Sector Development Program</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15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Dec-2001</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India</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State Power Sector Reform Program</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15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2002</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Indonesia</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Power Sector Restructuring Program</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40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Mar-1999</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Pakistan</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Energy Sector Restructuring Program</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339.1</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2002</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Philippin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Power Sector Restructuring Program</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30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Dec-1998</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Electricity Market Transmission and Development Program</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4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2002</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DB’s Driven PSR is a Wrong! </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diagnose is wrong and it led to wrong prescription of public ownership and monopoly.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form is one-size-fits-all model, implemented similar to all countries, undermine previous electricity structure and level of developmen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DB’s Driven PSR is a Wrong!</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Is made intervention in the reform proce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form is failed to address public benefi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SP through BOT/BOO scheme is putting private profit in public risk.</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ing DMCs debt burden, since the cost to undertake the reform is very high.</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609120"/>
            <a:ext cx="779292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Working Group on Power Sector Restructuring</a:t>
            </a:r>
            <a:br>
              <a:rPr sz="2800"/>
            </a:br>
            <a:r>
              <a:rPr b="0" lang="en-US" sz="2800" spc="-1" strike="noStrike">
                <a:solidFill>
                  <a:srgbClr val="333399"/>
                </a:solidFill>
                <a:latin typeface="Tahoma"/>
              </a:rPr>
              <a:t>(WGPSR)</a:t>
            </a:r>
            <a:endParaRPr b="0" lang="en-US" sz="2800" spc="-1" strike="noStrike">
              <a:solidFill>
                <a:srgbClr val="333399"/>
              </a:solidFill>
              <a:latin typeface="Tahoma"/>
            </a:endParaRPr>
          </a:p>
        </p:txBody>
      </p:sp>
      <p:sp>
        <p:nvSpPr>
          <p:cNvPr id="132" name="PlaceHolder 2"/>
          <p:cNvSpPr>
            <a:spLocks noGrp="1"/>
          </p:cNvSpPr>
          <p:nvPr>
            <p:ph/>
          </p:nvPr>
        </p:nvSpPr>
        <p:spPr>
          <a:xfrm>
            <a:off x="762120" y="2057400"/>
            <a:ext cx="7772400" cy="4114800"/>
          </a:xfrm>
          <a:prstGeom prst="rect">
            <a:avLst/>
          </a:prstGeom>
          <a:noFill/>
          <a:ln w="0">
            <a:noFill/>
          </a:ln>
        </p:spPr>
        <p:txBody>
          <a:bodyPr lIns="90000" rIns="90000" tIns="46800" bIns="46800" anchor="t">
            <a:normAutofit fontScale="99000"/>
          </a:bodyPr>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ablished in 2001 by NGOs, as a reaction to Power Sector Restructuring Program in Indonesia funded by ADB and supported by The World Bank and IMF. </a:t>
            </a:r>
            <a:endParaRPr b="0" lang="en-US" sz="1800" spc="-1" strike="noStrike">
              <a:solidFill>
                <a:srgbClr val="000000"/>
              </a:solidFill>
              <a:latin typeface="Tahoma"/>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objective of the group is to do advocacy on the restructuring program of power, and energy sector issue in general and fighting for transparancy, accountability and genuine public participation into power sector policy and development agenda in Indonesia. It activities include policy advocacy, research and public education.</a:t>
            </a:r>
            <a:endParaRPr b="0" lang="en-US" sz="1800" spc="-1" strike="noStrike">
              <a:solidFill>
                <a:srgbClr val="000000"/>
              </a:solidFill>
              <a:latin typeface="Tahoma"/>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GPSR has 8 NGOs member from various backgrounds and activities. It can be reached at:</a:t>
            </a:r>
            <a:endParaRPr b="0" lang="en-US" sz="1800" spc="-1" strike="noStrike">
              <a:solidFill>
                <a:srgbClr val="000000"/>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l. Mampang Prapatan XI No. 23 Jakarta 12790 Indonesia</a:t>
            </a:r>
            <a:endParaRPr b="0" lang="en-US" sz="1800" spc="-1" strike="noStrike">
              <a:solidFill>
                <a:srgbClr val="000000"/>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l: +62-21-79196721/22 Fax: +62-21-7941577</a:t>
            </a:r>
            <a:endParaRPr b="0" lang="en-US" sz="1800" spc="-1" strike="noStrike">
              <a:solidFill>
                <a:srgbClr val="000000"/>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mail: </a:t>
            </a:r>
            <a:r>
              <a:rPr b="0" lang="en-US" sz="1800" spc="-1" strike="noStrike" u="sng">
                <a:solidFill>
                  <a:srgbClr val="ff0000"/>
                </a:solidFill>
                <a:uFillTx/>
                <a:latin typeface="Tahoma"/>
                <a:hlinkClick r:id="rId1"/>
              </a:rPr>
              <a:t>secretariat@wgpsr.org</a:t>
            </a:r>
            <a:r>
              <a:rPr b="1" lang="en-US" sz="1800" spc="-1" strike="noStrike">
                <a:solidFill>
                  <a:srgbClr val="000000"/>
                </a:solidFill>
                <a:latin typeface="Tahoma"/>
              </a:rPr>
              <a:t> Url: www. wgpsr.org</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roduction…</a:t>
            </a:r>
            <a:endParaRPr b="0" lang="en-US" sz="4400" spc="-1" strike="noStrike">
              <a:solidFill>
                <a:srgbClr val="333399"/>
              </a:solidFill>
              <a:latin typeface="Tahoma"/>
            </a:endParaRPr>
          </a:p>
        </p:txBody>
      </p:sp>
      <p:sp>
        <p:nvSpPr>
          <p:cNvPr id="102" name="PlaceHolder 2"/>
          <p:cNvSpPr>
            <a:spLocks noGrp="1"/>
          </p:cNvSpPr>
          <p:nvPr>
            <p:ph/>
          </p:nvPr>
        </p:nvSpPr>
        <p:spPr>
          <a:xfrm>
            <a:off x="990360" y="2362320"/>
            <a:ext cx="7848360" cy="411480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ower sector in many developing countries are undergoing fundamental changes that are enormous in their scope and depth.</a:t>
            </a:r>
            <a:endParaRPr b="0" lang="en-US" sz="2200" spc="-1" strike="noStrike">
              <a:solidFill>
                <a:srgbClr val="000000"/>
              </a:solidFill>
              <a:latin typeface="Tahoma"/>
            </a:endParaRPr>
          </a:p>
          <a:p>
            <a:pPr marL="339480" indent="-3394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st countries in developing world are taking steps toward power liberalization, deregulation and privatization to meet the condition imposed by international financial institutions (IFIs) and international donor and to comply with regional or global trade arrangement. </a:t>
            </a:r>
            <a:endParaRPr b="0" lang="en-US" sz="2200" spc="-1" strike="noStrike">
              <a:solidFill>
                <a:srgbClr val="000000"/>
              </a:solidFill>
              <a:latin typeface="Tahoma"/>
            </a:endParaRPr>
          </a:p>
          <a:p>
            <a:pPr marL="339480" indent="-3394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Is argue that power deregulation, liberalization and privatization as means of increasing efficiency and attracting foreign investment to build power infrastructure for country’s economic growth.</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1221840" y="285480"/>
            <a:ext cx="7650360" cy="13197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roduction…con’t</a:t>
            </a:r>
            <a:endParaRPr b="0" lang="en-US" sz="4400" spc="-1" strike="noStrike">
              <a:solidFill>
                <a:srgbClr val="333399"/>
              </a:solidFill>
              <a:latin typeface="Tahoma"/>
            </a:endParaRPr>
          </a:p>
        </p:txBody>
      </p:sp>
      <p:sp>
        <p:nvSpPr>
          <p:cNvPr id="104" name="PlaceHolder 1"/>
          <p:cNvSpPr>
            <a:spLocks noGrp="1"/>
          </p:cNvSpPr>
          <p:nvPr>
            <p:ph/>
          </p:nvPr>
        </p:nvSpPr>
        <p:spPr>
          <a:xfrm>
            <a:off x="762120" y="2286000"/>
            <a:ext cx="761688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fter 1993, The World Bank makes power sector reform (PSR) as  loan conditionality for borrowing countries. Since then, it followed by regional banks.</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sia region, ADB has been pushing its DMCs to undertake PSR since 1995. </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ever, a number of Asian countries has started the PSR since early 90s with Private Power Program (such as Bangladesh, Indonesia, Philippines, India) but the actual power reform agenda just started after 1997 economic crises as a part of structural reform program (Indonesia, Thailand, Philippines).</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form agenda is also supported by bilateral development aid agency, such as USAID, DFID, GTZ and JBIC.</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1221840" y="285480"/>
            <a:ext cx="7650360" cy="13197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wer Sector Reform…</a:t>
            </a:r>
            <a:endParaRPr b="0" lang="en-US" sz="4400" spc="-1" strike="noStrike">
              <a:solidFill>
                <a:srgbClr val="333399"/>
              </a:solidFill>
              <a:latin typeface="Tahoma"/>
            </a:endParaRPr>
          </a:p>
        </p:txBody>
      </p:sp>
      <p:sp>
        <p:nvSpPr>
          <p:cNvPr id="106" name="PlaceHolder 1"/>
          <p:cNvSpPr>
            <a:spLocks noGrp="1"/>
          </p:cNvSpPr>
          <p:nvPr>
            <p:ph/>
          </p:nvPr>
        </p:nvSpPr>
        <p:spPr>
          <a:xfrm>
            <a:off x="685800" y="2362320"/>
            <a:ext cx="7693200" cy="4038480"/>
          </a:xfrm>
          <a:prstGeom prst="rect">
            <a:avLst/>
          </a:prstGeom>
          <a:noFill/>
          <a:ln w="0">
            <a:noFill/>
          </a:ln>
        </p:spPr>
        <p:txBody>
          <a:bodyPr lIns="90000" rIns="90000" tIns="46800" bIns="46800" anchor="t">
            <a:normAutofit fontScale="96000"/>
          </a:bodyPr>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wer Sector Reform meaning restructure power sector industry and change its ownership, liberalizing the sector for greater private sector participation and privatization of state-owned power company.</a:t>
            </a:r>
            <a:endParaRPr b="0" lang="en-US" sz="2000" spc="-1" strike="noStrike">
              <a:solidFill>
                <a:srgbClr val="000000"/>
              </a:solidFill>
              <a:latin typeface="Tahoma"/>
            </a:endParaRPr>
          </a:p>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der ADB, World Bank and IMF guidance, reform of the power sector is generally undertaken: </a:t>
            </a:r>
            <a:endParaRPr b="0" lang="en-US" sz="2000" spc="-1" strike="noStrike">
              <a:solidFill>
                <a:srgbClr val="000000"/>
              </a:solidFill>
              <a:latin typeface="Tahoma"/>
            </a:endParaRPr>
          </a:p>
          <a:p>
            <a:pPr lvl="1" marL="713160" indent="-274320">
              <a:spcBef>
                <a:spcPts val="499"/>
              </a:spcBef>
              <a:buClr>
                <a:srgbClr val="ff0000"/>
              </a:buClr>
              <a:buSzPct val="5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a part of macro-economic management of country fiscal and as a part of the process of eliminating budgetary subsidies for providing electricity to existing consumers. </a:t>
            </a:r>
            <a:endParaRPr b="0" lang="en-US" sz="2000" spc="-1" strike="noStrike">
              <a:solidFill>
                <a:srgbClr val="000000"/>
              </a:solidFill>
              <a:latin typeface="Tahoma"/>
            </a:endParaRPr>
          </a:p>
          <a:p>
            <a:pPr lvl="1" marL="713160" indent="-274320">
              <a:spcBef>
                <a:spcPts val="499"/>
              </a:spcBef>
              <a:buClr>
                <a:srgbClr val="ff0000"/>
              </a:buClr>
              <a:buSzPct val="5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erentiate between commercial operation of the sector entities and social functions of the state that require equity in national developmen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1221840" y="285480"/>
            <a:ext cx="7650360" cy="13197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wer Sector Reform…</a:t>
            </a:r>
            <a:r>
              <a:rPr b="0" lang="en-US" sz="3200" spc="-1" strike="noStrike">
                <a:solidFill>
                  <a:srgbClr val="333399"/>
                </a:solidFill>
                <a:latin typeface="Tahoma"/>
              </a:rPr>
              <a:t>cont’d</a:t>
            </a:r>
            <a:endParaRPr b="0" lang="en-US" sz="3200" spc="-1" strike="noStrike">
              <a:solidFill>
                <a:srgbClr val="333399"/>
              </a:solidFill>
              <a:latin typeface="Tahoma"/>
            </a:endParaRPr>
          </a:p>
        </p:txBody>
      </p:sp>
      <p:sp>
        <p:nvSpPr>
          <p:cNvPr id="108" name="PlaceHolder 1"/>
          <p:cNvSpPr>
            <a:spLocks noGrp="1"/>
          </p:cNvSpPr>
          <p:nvPr>
            <p:ph/>
          </p:nvPr>
        </p:nvSpPr>
        <p:spPr>
          <a:xfrm>
            <a:off x="761760" y="2361960"/>
            <a:ext cx="7769160" cy="4190760"/>
          </a:xfrm>
          <a:prstGeom prst="rect">
            <a:avLst/>
          </a:prstGeom>
          <a:noFill/>
          <a:ln w="0">
            <a:noFill/>
          </a:ln>
        </p:spPr>
        <p:txBody>
          <a:bodyPr lIns="90000" rIns="90000" tIns="46800" bIns="46800" anchor="t">
            <a:normAutofit fontScale="95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ationale for deregulation and privatization of power sector is: </a:t>
            </a:r>
            <a:endParaRPr b="0" lang="en-US" sz="2000" spc="-1" strike="noStrike">
              <a:solidFill>
                <a:srgbClr val="000000"/>
              </a:solidFill>
              <a:latin typeface="Tahoma"/>
            </a:endParaRPr>
          </a:p>
          <a:p>
            <a:pPr lvl="1" marL="705600" indent="-271440">
              <a:lnSpc>
                <a:spcPct val="80000"/>
              </a:lnSpc>
              <a:spcBef>
                <a:spcPts val="499"/>
              </a:spcBef>
              <a:buClr>
                <a:srgbClr val="ff0000"/>
              </a:buClr>
              <a:buSzPct val="5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vate sector is more efficient  than public sector in matters involving resources allocation and overall development of power sector; </a:t>
            </a:r>
            <a:endParaRPr b="0" lang="en-US" sz="2000" spc="-1" strike="noStrike">
              <a:solidFill>
                <a:srgbClr val="000000"/>
              </a:solidFill>
              <a:latin typeface="Tahoma"/>
            </a:endParaRPr>
          </a:p>
          <a:p>
            <a:pPr lvl="1" marL="705600" indent="-271440">
              <a:lnSpc>
                <a:spcPct val="80000"/>
              </a:lnSpc>
              <a:spcBef>
                <a:spcPts val="499"/>
              </a:spcBef>
              <a:buClr>
                <a:srgbClr val="ff0000"/>
              </a:buClr>
              <a:buSzPct val="5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eater competion and less state intervention will increase economic efficiency and lowering electricity price for consumer; </a:t>
            </a:r>
            <a:endParaRPr b="0" lang="en-US" sz="2000" spc="-1" strike="noStrike">
              <a:solidFill>
                <a:srgbClr val="000000"/>
              </a:solidFill>
              <a:latin typeface="Tahoma"/>
            </a:endParaRPr>
          </a:p>
          <a:p>
            <a:pPr lvl="1" marL="705600" indent="-271440">
              <a:lnSpc>
                <a:spcPct val="80000"/>
              </a:lnSpc>
              <a:spcBef>
                <a:spcPts val="499"/>
              </a:spcBef>
              <a:buClr>
                <a:srgbClr val="ff0000"/>
              </a:buClr>
              <a:buSzPct val="5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ket friendly policy will enable the electricity system to be subject to democratic control through consumer choices; </a:t>
            </a:r>
            <a:endParaRPr b="0" lang="en-US" sz="2000" spc="-1" strike="noStrike">
              <a:solidFill>
                <a:srgbClr val="000000"/>
              </a:solidFill>
              <a:latin typeface="Tahoma"/>
            </a:endParaRPr>
          </a:p>
          <a:p>
            <a:pPr lvl="1" marL="705600" indent="-271440">
              <a:lnSpc>
                <a:spcPct val="80000"/>
              </a:lnSpc>
              <a:spcBef>
                <a:spcPts val="499"/>
              </a:spcBef>
              <a:buClr>
                <a:srgbClr val="ff0000"/>
              </a:buClr>
              <a:buSzPct val="5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beralization of energy sector will enhance environmental quality by driving out old and dirty technology;</a:t>
            </a:r>
            <a:endParaRPr b="0" lang="en-US" sz="2000" spc="-1" strike="noStrike">
              <a:solidFill>
                <a:srgbClr val="000000"/>
              </a:solidFill>
              <a:latin typeface="Tahoma"/>
            </a:endParaRPr>
          </a:p>
          <a:p>
            <a:pPr lvl="1" marL="705600" indent="-271440">
              <a:lnSpc>
                <a:spcPct val="80000"/>
              </a:lnSpc>
              <a:spcBef>
                <a:spcPts val="499"/>
              </a:spcBef>
              <a:buClr>
                <a:srgbClr val="ff0000"/>
              </a:buClr>
              <a:buSzPct val="5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courage private sector participation and investment, thus providing governments fiscal space to invest more on social services.</a:t>
            </a:r>
            <a:endParaRPr b="0" lang="en-US" sz="2000" spc="-1" strike="noStrike">
              <a:solidFill>
                <a:srgbClr val="000000"/>
              </a:solidFill>
              <a:latin typeface="Tahom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1221840" y="285480"/>
            <a:ext cx="7650360" cy="13197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he ADB’s Policy: Paradigm Shift</a:t>
            </a:r>
            <a:endParaRPr b="0" lang="en-US" sz="4000" spc="-1" strike="noStrike">
              <a:solidFill>
                <a:srgbClr val="333399"/>
              </a:solidFill>
              <a:latin typeface="Tahoma"/>
            </a:endParaRPr>
          </a:p>
        </p:txBody>
      </p:sp>
      <p:sp>
        <p:nvSpPr>
          <p:cNvPr id="110"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81 ADB’s Energy Policy: The Role of the Bank in the Energy Sector in the Region</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cused on overcoming crisis caused by oil price shock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e was a need for large investment to meet energy requirements of rapidly growing economies in Asian countries.</a:t>
            </a:r>
            <a:endParaRPr b="0" lang="en-US" sz="1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ank Energy Policy:</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phasis on developing energy infrastructur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ing incentives to bring foreign investment.</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igger role of government/stat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ablishment state-owned energy company and public utilitie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vernment monopolize energy sector to meet its economic of scal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1221840" y="285480"/>
            <a:ext cx="7650360" cy="13197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radigm Shift…</a:t>
            </a:r>
            <a:r>
              <a:rPr b="0" lang="en-US" sz="3600" spc="-1" strike="noStrike">
                <a:solidFill>
                  <a:srgbClr val="333399"/>
                </a:solidFill>
                <a:latin typeface="Tahoma"/>
              </a:rPr>
              <a:t>con’t</a:t>
            </a:r>
            <a:endParaRPr b="0" lang="en-US" sz="3600" spc="-1" strike="noStrike">
              <a:solidFill>
                <a:srgbClr val="333399"/>
              </a:solidFill>
              <a:latin typeface="Tahoma"/>
            </a:endParaRPr>
          </a:p>
        </p:txBody>
      </p:sp>
      <p:sp>
        <p:nvSpPr>
          <p:cNvPr id="112" name="PlaceHolder 1"/>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995 ADB’s Energy Policy:</a:t>
            </a:r>
            <a:endParaRPr b="0" lang="en-US" sz="28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xperience of reform in developed countries (USA, UK, NZ) and some Developing Member Countries (DMCs) such as Thailand (EGAT) and Malaysia (Tenaga Bhd), Philippines (establishment of ERB). ADB praised them by saying:” </a:t>
            </a:r>
            <a:r>
              <a:rPr b="0" i="1" lang="en-US" sz="2400" spc="-1" strike="noStrike">
                <a:solidFill>
                  <a:srgbClr val="000000"/>
                </a:solidFill>
                <a:latin typeface="Tahoma"/>
              </a:rPr>
              <a:t>Some DMCs have started moving to the right direction</a:t>
            </a:r>
            <a:r>
              <a:rPr b="0" lang="en-US" sz="2400" spc="-1" strike="noStrike">
                <a:solidFill>
                  <a:srgbClr val="000000"/>
                </a:solidFill>
                <a:latin typeface="Tahoma"/>
              </a:rPr>
              <a:t>”.   </a:t>
            </a:r>
            <a:endParaRPr b="0" lang="en-US" sz="24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or performance of state-owned utilities.</a:t>
            </a:r>
            <a:endParaRPr b="0" lang="en-US" sz="24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eater private sector interest in infrastructure development and new financing scheme were discovered: BOT/BOO/BOOT</a:t>
            </a:r>
            <a:endParaRPr b="0" lang="en-US" sz="2400" spc="-1" strike="noStrike">
              <a:solidFill>
                <a:srgbClr val="000000"/>
              </a:solidFill>
              <a:latin typeface="Tahoma"/>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1221840" y="285480"/>
            <a:ext cx="7650360" cy="13197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radigm Shift…con’t</a:t>
            </a:r>
            <a:endParaRPr b="0" lang="en-US" sz="4400" spc="-1" strike="noStrike">
              <a:solidFill>
                <a:srgbClr val="333399"/>
              </a:solidFill>
              <a:latin typeface="Tahoma"/>
            </a:endParaRPr>
          </a:p>
        </p:txBody>
      </p:sp>
      <p:sp>
        <p:nvSpPr>
          <p:cNvPr id="114" name="PlaceHolder 1"/>
          <p:cNvSpPr>
            <a:spLocks noGrp="1"/>
          </p:cNvSpPr>
          <p:nvPr>
            <p:ph/>
          </p:nvPr>
        </p:nvSpPr>
        <p:spPr>
          <a:xfrm>
            <a:off x="762120" y="20574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ank Energy Policy (Power Sub-sector):</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creasing private investment</a:t>
            </a:r>
            <a:r>
              <a:rPr b="0" lang="en-US" sz="2000" spc="-1" strike="noStrike">
                <a:solidFill>
                  <a:srgbClr val="000000"/>
                </a:solidFill>
                <a:latin typeface="Tahoma"/>
              </a:rPr>
              <a:t>: “</a:t>
            </a:r>
            <a:r>
              <a:rPr b="0" i="1" lang="en-US" sz="1600" spc="-1" strike="noStrike">
                <a:solidFill>
                  <a:srgbClr val="000000"/>
                </a:solidFill>
                <a:latin typeface="Tahoma"/>
              </a:rPr>
              <a:t>Utilities should not continue to depend on the government for incremental equity and debt, especially when government have to cut budget deficit, control inflation and meet requirement in the social sector. Thus utilities must raise equities and loans from sources other than government and to rely more on the equity. Also, envisaged power subsector expansion program for the next 10 years is so large that is beyond the implementation capacity of many utilities.  It is therefore necessary and urgent that new participants and institutions come into the field</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structuring of DMCs power sub-sector</a:t>
            </a:r>
            <a:r>
              <a:rPr b="0" lang="en-US" sz="2000" spc="-1" strike="noStrike">
                <a:solidFill>
                  <a:srgbClr val="000000"/>
                </a:solidFill>
                <a:latin typeface="Tahoma"/>
              </a:rPr>
              <a:t> to: increase competition;  allocate a greater role for private sector; separate the roles of owning and regulation; provide for fair, objective, stable and transparent regulation; broaden the financing base. </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1221840" y="285480"/>
            <a:ext cx="7650360" cy="13197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radigm Shift…con’t</a:t>
            </a:r>
            <a:endParaRPr b="0" lang="en-US" sz="4400" spc="-1" strike="noStrike">
              <a:solidFill>
                <a:srgbClr val="333399"/>
              </a:solidFill>
              <a:latin typeface="Tahoma"/>
            </a:endParaRPr>
          </a:p>
        </p:txBody>
      </p:sp>
      <p:sp>
        <p:nvSpPr>
          <p:cNvPr id="116" name="PlaceHolder 1"/>
          <p:cNvSpPr>
            <a:spLocks noGrp="1"/>
          </p:cNvSpPr>
          <p:nvPr>
            <p:ph/>
          </p:nvPr>
        </p:nvSpPr>
        <p:spPr>
          <a:xfrm>
            <a:off x="762120" y="2133720"/>
            <a:ext cx="7772400" cy="4114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ivatization of government owned utilities</a:t>
            </a:r>
            <a:r>
              <a:rPr b="0" lang="en-US" sz="2000" spc="-1" strike="noStrike">
                <a:solidFill>
                  <a:srgbClr val="000000"/>
                </a:solidFill>
                <a:latin typeface="Tahoma"/>
              </a:rPr>
              <a:t>: “</a:t>
            </a:r>
            <a:r>
              <a:rPr b="0" i="1" lang="en-US" sz="1600" spc="-1" strike="noStrike">
                <a:solidFill>
                  <a:srgbClr val="000000"/>
                </a:solidFill>
                <a:latin typeface="Tahoma"/>
              </a:rPr>
              <a:t>The thrust of institutional work will be to identify government-owned utilities that cannot be privatized straight away and to prepare them for eventual privatization through a program of public enterprise reforms to restructure utilities as corporate, commercial entitities. Bank assistance to the power subsector from the public sector window will be in context of demonstrated willingness by DMC government to undertake meaningful subsector restructuring and institutional reforms. Simultaneously, the government will be encouraged to create the legal framework and necessary incentive and quarantee package to allow and attract private sector entrepreneurs to build, own and operate the new power generating units supplying power to the grid at contracted prices</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form as the condition to the Bank’s assistance in energy sector</a:t>
            </a:r>
            <a:r>
              <a:rPr b="0" lang="en-US" sz="2000" spc="-1" strike="noStrike">
                <a:solidFill>
                  <a:srgbClr val="000000"/>
                </a:solidFill>
                <a:latin typeface="Tahoma"/>
              </a:rPr>
              <a:t>: “</a:t>
            </a:r>
            <a:r>
              <a:rPr b="0" i="1" lang="en-US" sz="1600" spc="-1" strike="noStrike">
                <a:solidFill>
                  <a:srgbClr val="000000"/>
                </a:solidFill>
                <a:latin typeface="Tahoma"/>
              </a:rPr>
              <a:t>A major portion of the Bank’s lending and technical assistance should be directed to those DMCs which are willing to restructure their power sector to increase efficiency and to mobilize the incremental investment funds from the private sector, both foreign and domestic</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0T02:06:10Z</dcterms:created>
  <dc:creator> </dc:creator>
  <dc:description/>
  <dc:language>en-US</dc:language>
  <cp:lastModifiedBy>Mae Buenaventura</cp:lastModifiedBy>
  <dcterms:modified xsi:type="dcterms:W3CDTF">2003-12-10T00:26:00Z</dcterms:modified>
  <cp:revision>7</cp:revision>
  <dc:subject/>
  <dc:title>Asian Development Bank and Privatization of Power Services </dc:title>
</cp:coreProperties>
</file>